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601A1A-74F5-484C-B8C1-DDDE084879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224EA8-8F60-4B98-B8DE-DE9EBCF622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1C7E428-A210-4F60-9F30-C98B1494D1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C2363A5-DFB0-410D-BAA5-007050FC40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63F24A-56FD-4300-90A3-48D4D2A370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A345B9-5B17-4005-9EC3-2559155D5D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1AC1D5-F1B6-4677-992D-B3438C6AE9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9E1ABB9-E6E2-4974-A25F-912749BC7B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E51CC0F-EB18-4786-B849-C97F280412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49C88A-39F2-4B7A-9751-FFD7A03465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F9DE17-91B8-4A65-B0EE-F9B32758E8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AB6F63-2FA2-47F5-A45E-CB15B5C311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5A43B-A122-47B0-982E-7DC93264031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1916280"/>
            <a:ext cx="532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a:t>
            </a:r>
            <a:br>
              <a:rPr sz="4000"/>
            </a:br>
            <a:r>
              <a:rPr b="1" lang="zh-CN" sz="4000" spc="-1" strike="noStrike">
                <a:solidFill>
                  <a:srgbClr val="ffffff"/>
                </a:solidFill>
                <a:latin typeface="Verdana"/>
                <a:ea typeface="宋体"/>
              </a:rPr>
              <a:t>急危重症护理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5EA68-0835-4B88-A7FE-BA2424E562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6"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内急救主要依托医院急诊科（</a:t>
            </a:r>
            <a:r>
              <a:rPr b="1" lang="en-US" sz="2400" spc="-1" strike="noStrike">
                <a:solidFill>
                  <a:srgbClr val="8ac8de"/>
                </a:solidFill>
                <a:latin typeface="Verdana"/>
                <a:ea typeface="宋体"/>
              </a:rPr>
              <a:t>hospital emergency department</a:t>
            </a:r>
            <a:r>
              <a:rPr b="1" lang="zh-CN" sz="2400" spc="-1" strike="noStrike">
                <a:solidFill>
                  <a:srgbClr val="8ac8de"/>
                </a:solidFill>
                <a:latin typeface="Verdana"/>
                <a:ea typeface="宋体"/>
              </a:rPr>
              <a:t>）完成，是院前急救的继续，同样是院内急救的第一站，</a:t>
            </a:r>
            <a:r>
              <a:rPr b="1" lang="en-US" sz="2400" spc="-1" strike="noStrike">
                <a:solidFill>
                  <a:srgbClr val="8ac8de"/>
                </a:solidFill>
                <a:latin typeface="Verdana"/>
                <a:ea typeface="宋体"/>
              </a:rPr>
              <a:t>24</a:t>
            </a:r>
            <a:r>
              <a:rPr b="1" lang="zh-CN" sz="2400" spc="-1" strike="noStrike">
                <a:solidFill>
                  <a:srgbClr val="8ac8de"/>
                </a:solidFill>
                <a:latin typeface="Verdana"/>
                <a:ea typeface="宋体"/>
              </a:rPr>
              <a:t>小时不间断地对来自院前的各类患者按照病情轻重缓急实施急诊或急救。</a:t>
            </a:r>
            <a:endParaRPr b="1" lang="en-US" sz="2400" spc="-1" strike="noStrike">
              <a:solidFill>
                <a:srgbClr val="8ac8de"/>
              </a:solidFill>
              <a:latin typeface="Verdana"/>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院内急救</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内急救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前我国急诊科运营模式主要有独立自主型、半独立性、轮转型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科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急诊急救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教学培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科研</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接受上级领导指派的临时任务</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重症监护</a:t>
            </a:r>
            <a:endParaRPr b="0" lang="en-US" sz="32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医学（</a:t>
            </a:r>
            <a:r>
              <a:rPr b="1" lang="en-US" sz="2800" spc="-1" strike="noStrike">
                <a:solidFill>
                  <a:srgbClr val="8ac8de"/>
                </a:solidFill>
                <a:latin typeface="Verdana"/>
                <a:ea typeface="宋体"/>
              </a:rPr>
              <a:t>critical care medicine</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CCM</a:t>
            </a:r>
            <a:r>
              <a:rPr b="1" lang="zh-CN" sz="2800" spc="-1" strike="noStrike">
                <a:solidFill>
                  <a:srgbClr val="8ac8de"/>
                </a:solidFill>
                <a:latin typeface="Verdana"/>
                <a:ea typeface="宋体"/>
              </a:rPr>
              <a:t>）是研究危及生命的疾病状态的发生、发展以及诊疗方法的临床医学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加强治疗病房（</a:t>
            </a:r>
            <a:r>
              <a:rPr b="1" lang="en-US" sz="2800" spc="-1" strike="noStrike">
                <a:solidFill>
                  <a:srgbClr val="8ac8de"/>
                </a:solidFill>
                <a:latin typeface="Verdana"/>
                <a:ea typeface="宋体"/>
              </a:rPr>
              <a:t>intensive care uni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是重症医学学科的临床基地，由受过专门培训的医护人员应用现代医学理论，利用现代化高科技医疗设备，对因各种原因导致一个或多个器官与系统功能障碍、危及生命或具有潜在高危因素的患者，及时提供系统的、高质量的医学监护和救治技术，是医院集中监护和救治重症患者的专业科室。</a:t>
            </a: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为综合</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专科</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和部分综合</a:t>
            </a:r>
            <a:r>
              <a:rPr b="1" lang="en-US" sz="2800" spc="-1" strike="noStrike">
                <a:solidFill>
                  <a:srgbClr val="8ac8de"/>
                </a:solidFill>
                <a:latin typeface="Verdana"/>
                <a:ea typeface="宋体"/>
              </a:rPr>
              <a:t>ICU</a:t>
            </a: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工作任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职能是对急危重症患者进行集中监测、强化治疗和护理，最大限度地抢救患者的生命及提高生存质量。</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士培训及其资格认证</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国外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国内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5133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理学的起源与发展</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医疗服务体系</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士培训及其资质认证</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急危重症医疗护理服务体系的工作范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院前急救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重症医学的概念。</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描述专科护士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解释院前急救的工作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解释医院急诊科的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解释急危重症专科护士的培训及资质要求和内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49F8E-C63C-4423-85D3-9699E17156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121CD-A219-4FFB-A6F7-5270315A4F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a:t>
            </a:r>
            <a:endParaRPr b="0" lang="en-US" sz="36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以现代医学科学、护理学专业理论为基础，研究各类急性疾病和创伤、慢性疾病急性发作和危重症患者的抢救、护理和管理的综合性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理学的起源与发展</a:t>
            </a:r>
            <a:endParaRPr b="0" lang="en-US" sz="3200" spc="-1" strike="noStrike">
              <a:solidFill>
                <a:srgbClr val="ffffff"/>
              </a:solidFill>
              <a:latin typeface="Verdana"/>
            </a:endParaRPr>
          </a:p>
        </p:txBody>
      </p:sp>
      <p:sp>
        <p:nvSpPr>
          <p:cNvPr id="13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急危重症护理学的起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我国急危重症护理学的现状及发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开展急危重症多元化区域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利用多科室多专业推动学科发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面对人口老龄化和疾病复杂化的挑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运用科学方法安全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五）探索应用信息技术推动学科发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B2A8B-70E1-4DBE-90D4-E0CD97A16F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6197-2E2D-46E0-9CD7-5C35A11AD8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诊医疗服务体系</a:t>
            </a:r>
            <a:endParaRPr b="0" lang="en-US" sz="3200" spc="-1" strike="noStrike">
              <a:solidFill>
                <a:srgbClr val="ffffff"/>
              </a:solidFill>
              <a:latin typeface="Verdana"/>
            </a:endParaRPr>
          </a:p>
        </p:txBody>
      </p:sp>
      <p:sp>
        <p:nvSpPr>
          <p:cNvPr id="13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医疗服务体系（</a:t>
            </a:r>
            <a:r>
              <a:rPr b="1" lang="en-US" sz="2800" spc="-1" strike="noStrike">
                <a:solidFill>
                  <a:srgbClr val="8ac8de"/>
                </a:solidFill>
                <a:latin typeface="Verdana"/>
                <a:ea typeface="宋体"/>
              </a:rPr>
              <a:t>emergency medical service system</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MSS)</a:t>
            </a:r>
            <a:r>
              <a:rPr b="1" lang="zh-CN" sz="2800" spc="-1" strike="noStrike">
                <a:solidFill>
                  <a:srgbClr val="8ac8de"/>
                </a:solidFill>
                <a:latin typeface="Verdana"/>
                <a:ea typeface="宋体"/>
              </a:rPr>
              <a:t>主要围绕院前急救、院内急救和危重症监护等三个方面开展工作，工作范围不仅局限在医院日常急危重症的救治工作，还包括各种大型灾害、群体性突发事件等公共卫生事件的的救助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28972-8FED-4B00-A9A7-BFDEAC09D7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一、院前急救</a:t>
            </a:r>
            <a:endParaRPr b="0" lang="en-US" sz="3200" spc="-1" strike="noStrike">
              <a:solidFill>
                <a:srgbClr val="ffffff"/>
              </a:solidFill>
              <a:latin typeface="Verdana"/>
            </a:endParaRPr>
          </a:p>
        </p:txBody>
      </p:sp>
      <p:sp>
        <p:nvSpPr>
          <p:cNvPr id="13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a:t>
            </a:r>
            <a:r>
              <a:rPr b="1" lang="en-US" sz="2800" spc="-1" strike="noStrike">
                <a:solidFill>
                  <a:srgbClr val="8ac8de"/>
                </a:solidFill>
                <a:latin typeface="Verdana"/>
                <a:ea typeface="宋体"/>
              </a:rPr>
              <a:t>prehospital emergency care</a:t>
            </a:r>
            <a:r>
              <a:rPr b="1" lang="zh-CN" sz="2800" spc="-1" strike="noStrike">
                <a:solidFill>
                  <a:srgbClr val="8ac8de"/>
                </a:solidFill>
                <a:latin typeface="Verdana"/>
                <a:ea typeface="宋体"/>
              </a:rPr>
              <a:t>）也称院外急救（</a:t>
            </a:r>
            <a:r>
              <a:rPr b="1" lang="en-US" sz="2800" spc="-1" strike="noStrike">
                <a:solidFill>
                  <a:srgbClr val="8ac8de"/>
                </a:solidFill>
                <a:latin typeface="Verdana"/>
                <a:ea typeface="宋体"/>
              </a:rPr>
              <a:t>outhospital emergency care</a:t>
            </a:r>
            <a:r>
              <a:rPr b="1" lang="zh-CN" sz="2800" spc="-1" strike="noStrike">
                <a:solidFill>
                  <a:srgbClr val="8ac8de"/>
                </a:solidFill>
                <a:latin typeface="Verdana"/>
                <a:ea typeface="宋体"/>
              </a:rPr>
              <a:t>），是指在医院之外的环境中，对各种危及生命的急症、创伤、中毒、灾害事故等伤病者进行现场救护、转运及途中监护的统称，即在患者发病或发生创伤到医院就医之前这个阶段的救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56760" y="1499760"/>
            <a:ext cx="8318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的共性环节包括：通讯、运输、急救技术、急救器材装备、急救网络、调度管理等，其中通讯、运输和医疗技术被认为是院前急救的三大要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我国院前急救主要模式包括独立型、指挥型、院前型、依托型等。</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5140-29EE-448E-97D9-2DD201D4F6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3"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前急救的工作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对日常呼救患者的院前急救这是院前急救的首要和经常性的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突发公共卫生事件或灾害性事故发生时的紧急救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执行特殊任务时的救护值班</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急救通讯网络中的枢纽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普及急救知识</a:t>
            </a:r>
            <a:endParaRPr b="1" lang="en-US" sz="2400" spc="-1" strike="noStrike">
              <a:solidFill>
                <a:srgbClr val="8ac8de"/>
              </a:solidFill>
              <a:latin typeface="Verdana"/>
            </a:endParaRPr>
          </a:p>
        </p:txBody>
      </p:sp>
      <p:sp>
        <p:nvSpPr>
          <p:cNvPr id="14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11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